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4B0-E33D-4E5C-A6EA-D75B4446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F0C-DE0A-4FAA-AB26-6490524E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069-BAFF-4A1B-B429-0D5D32A3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84B-D979-4AD2-9A51-9BDB833F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2EA8-C7A7-419E-BCA0-DB20F0BC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7652-4245-49DC-9420-5885D544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191E-EB4F-4DC4-8D25-2F2A348C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29BC-A02F-4530-A1DE-B3811B8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DF05-BB28-4173-BCF4-98B581BC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1990-4F49-436B-8FE6-F696FCE0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BDC6-7C21-4905-A4B3-D264A7D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3F9-CFAC-498F-B0A9-4AAC7F20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3D4A-1408-4A20-9631-34A7168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E64D-69BA-42B3-BB95-76950A27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E277-4E22-40BE-B9A7-59716CCC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2AD-957F-4B4D-86EF-093545C2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C1BF-496B-40B1-8FE8-39000018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7C8-850D-4EC6-8DF3-C2B664A4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52F-EDC8-4CEC-9FCB-FFADF7CD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9C4-E4A7-493A-912F-B0B07AB7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325-DEE3-4D04-8451-6B8E85FE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D01-3866-4EB6-A93F-EC8581A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877-6318-4321-9711-939E891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95C-948B-46FA-8B82-2598F79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FBCD-4DF9-4D48-A2DD-CD4C8EB268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676-5CBF-4FB6-A6D6-E98CAF3E77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Me llamo _________ Clase 7 IL</a:t>
            </a:r>
            <a:br>
              <a:rPr sz="4000"/>
            </a:b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La fecha es el 25 de enero del 201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Propósito # 46:</a:t>
            </a:r>
            <a:r>
              <a:rPr b="0" lang="es-ES_tradnl" sz="32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qué hora haces tu tare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</a:t>
            </a:r>
            <a:r>
              <a:rPr b="0" lang="es-ES_tradnl" sz="3200" spc="-1" strike="noStrike">
                <a:solidFill>
                  <a:srgbClr val="ff505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Identi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467480" y="2819520"/>
            <a:ext cx="1333800" cy="11570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1527120" cy="15332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299880" y="4724280"/>
            <a:ext cx="1148040" cy="1295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3962520" y="2743200"/>
            <a:ext cx="107928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7391520" y="45720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228600" y="30481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715000" y="297180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3733920" y="5029200"/>
            <a:ext cx="1276200" cy="995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2209680" y="3048120"/>
            <a:ext cx="12780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320" y="3240"/>
            <a:ext cx="9144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cer, poner, traer y salir en el presente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Telling what people d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0" y="2819520"/>
          <a:ext cx="91440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676520"/>
                <a:gridCol w="1523880"/>
                <a:gridCol w="144792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a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ot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7632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verbs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hace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do, to mak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pon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put, to pla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tra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bring),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salir</a:t>
            </a: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leav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ave an irregular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m. They are known as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“-Go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erbs because the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m has a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“g”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ll other forms are reg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69000" y="335268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93480" y="388620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49280" y="43578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83160" y="487692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37680" y="54100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Verdana"/>
              </a:rPr>
              <a:t>hacé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76200" y="5943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64520" y="33526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44800" y="38242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37600" y="43434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47800" y="487692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65960" y="54100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Verdana"/>
              </a:rPr>
              <a:t>poné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5943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78040" y="33670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280" y="380988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24560" y="43434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34400" y="487692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17280" y="54100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é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51120" y="594360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00840" y="33526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804800" y="38242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873560" y="4357800"/>
            <a:ext cx="8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83840" y="48769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i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981200" y="541008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76440" y="59436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2. Remember, that the verb</a:t>
            </a:r>
            <a:r>
              <a:rPr b="0" lang="en-US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tene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has a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“g”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in the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orm.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Tene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is also a BOOT-verb. The verb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Veni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(to come)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ollows the same patter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1680" y="1600200"/>
          <a:ext cx="8540640" cy="453708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43360" y="231624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e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77560" y="2925720"/>
            <a:ext cx="14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2640" y="36115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02240" y="41911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en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71880" y="487692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tené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1840" y="54864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14560" y="228600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e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46240" y="289548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45960" y="36115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393960" y="422100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eni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56480" y="49068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ven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90520" y="5516640"/>
            <a:ext cx="14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p. 37-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4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01:17:26Z</dcterms:created>
  <dc:creator>Helen Zumaeta</dc:creator>
  <dc:description/>
  <dc:language>en-US</dc:language>
  <cp:lastModifiedBy>Helen Zumaeta</cp:lastModifiedBy>
  <dcterms:modified xsi:type="dcterms:W3CDTF">2013-01-25T20:28:42Z</dcterms:modified>
  <cp:revision>6</cp:revision>
  <dc:subject/>
  <dc:title>Me llamo _________ Clase 7 IM La fecha es el 14 de octubre del 2011</dc:title>
</cp:coreProperties>
</file>